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07F3-F5DA-4B82-8654-42B61F726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27FD-DC39-471D-91C2-09A55988C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738A-F486-4763-8779-69BC8707A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EEDD-2F23-4DF6-B389-9BEF0A3F2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0A1C-FE2A-487E-980D-CC0DE8C9A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2BFB-25AD-4420-9521-294EF8A83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BF1A-D903-44B1-8E1C-386C02D72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C1FE-B5C4-4F30-8770-60BB15DA1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86ED-5DE7-4646-A257-866338B5A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948A-F124-4BC9-8A04-462D9A5E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BAD9-E88E-4907-850F-45AAA23A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770B-8109-41C8-A2BA-A1C987D2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A9F27-79D1-4FEA-B2C8-B23C90F145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N06_02a" descr=""/>
          <p:cNvPicPr/>
          <p:nvPr/>
        </p:nvPicPr>
        <p:blipFill>
          <a:blip r:embed="rId1"/>
          <a:stretch/>
        </p:blipFill>
        <p:spPr>
          <a:xfrm>
            <a:off x="0" y="685800"/>
            <a:ext cx="6095880" cy="5540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419720" y="2438280"/>
            <a:ext cx="4724280" cy="202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rea =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N  x  (3m – 1m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10 Jo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449568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m            3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143000"/>
            <a:ext cx="91440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sider a force  F = 5 Newtons 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</a:rPr>
              <a:t>(red line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hat  constantly pushes an object from x = 1 m to x = 3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4864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So work is the AREA under a FORCE-DISTANCE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N06_07c" descr=""/>
          <p:cNvPicPr/>
          <p:nvPr/>
        </p:nvPicPr>
        <p:blipFill>
          <a:blip r:embed="rId1"/>
          <a:stretch/>
        </p:blipFill>
        <p:spPr>
          <a:xfrm>
            <a:off x="0" y="380880"/>
            <a:ext cx="4648320" cy="42260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4724280"/>
            <a:ext cx="8077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a allows us to find the work done by forces that aren’t constant.  Consider the graph we made of the spring lab: use area to find the work done by the spring against grav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57400" y="1143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236232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90920" y="2895480"/>
            <a:ext cx="38088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90720" y="762120"/>
            <a:ext cx="0" cy="464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64832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066680" y="1218960"/>
            <a:ext cx="1600200" cy="33526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066680" y="3047760"/>
            <a:ext cx="3962520" cy="152388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22860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ce (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9520" y="48006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tension X (c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86200" y="228600"/>
            <a:ext cx="4495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LOPE of an F-x indicates the stiffness of a spring, that is, how many Newtons it takes to stretch it a given dist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2057400"/>
            <a:ext cx="259056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lope is called the “spring constant” 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ff springs have high k, slinky springs have low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3276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1981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00200" y="4572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62320" y="4572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572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86200" y="4572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51814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       10     15      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1981080"/>
            <a:ext cx="609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594360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= F/x       or as Robert Hooke wrote Hooke’s law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 = -k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N06_07c" descr=""/>
          <p:cNvPicPr/>
          <p:nvPr/>
        </p:nvPicPr>
        <p:blipFill>
          <a:blip r:embed="rId1"/>
          <a:stretch/>
        </p:blipFill>
        <p:spPr>
          <a:xfrm>
            <a:off x="838080" y="1592280"/>
            <a:ext cx="5791320" cy="5265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04920" y="0"/>
            <a:ext cx="7924680" cy="163044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ce that a spring pulls = </a:t>
            </a: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Fs = k 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y stored in a spring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Es = ½ kx</a:t>
            </a:r>
            <a:r>
              <a:rPr b="0" lang="en-US" sz="4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304920"/>
            <a:ext cx="8686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 the slopes of the two springs in your last lab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es that tell you about the comparative stiffness of the spring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2T14:27:44Z</dcterms:created>
  <dc:creator>socsd</dc:creator>
  <dc:description/>
  <dc:language>en-US</dc:language>
  <cp:lastModifiedBy>TZ</cp:lastModifiedBy>
  <dcterms:modified xsi:type="dcterms:W3CDTF">2007-01-04T13:35:57Z</dcterms:modified>
  <cp:revision>4</cp:revision>
  <dc:subject/>
  <dc:title>PowerPoint Presentation</dc:title>
</cp:coreProperties>
</file>